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0760" y="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62000" y="703440"/>
            <a:ext cx="463536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883116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0760" y="8831160"/>
            <a:ext cx="2930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CB6A3A-EB7C-4665-B951-E50D7D8B2E54}" type="slidenum"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jegy - véges számú különbözö jel, mennyiséget jelö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rendszer alapja - számjegyek száma (base, rad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jegyek „egymásmellé” írása - 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 számjegy a számon belüli relatív helyzete súlyozva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serny könyvben más van 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éldák, példá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étköznapi példám : notesz - menedzser kalkulátor - számítógé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 szintű üzenetrögzít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rtley H=k(szóhossz)*log n(elemek szá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00 krumpli mennyiségének a tárolása babszemek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00as alap : 100 krump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0es : 10e2 (100): 2*10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7es : 7e3 (343)=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6os : 6e3 (216)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5ös : 5e3 (125)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es : 4e4 (256)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3as : 3e5 (243)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es : 2e7 (128)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e3 (64)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3e3 (21)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e5 (32)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aritás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aritás má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en memóriák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llenőrző összeg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 kézen meddig tudunk számol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00101.110 = 5,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3,25= 01101.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 kézen meddig tudunk számol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es komlemens képzés : 0&lt;-&gt;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ettes komplemens képzés : jobbról-balra az első egyesig ugyan az, majd 1&lt;-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ülönbségek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űvelet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brázolható tartomá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0-ák szá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ír : jel vagy függvény ismert vagy rögzített megállapodások alapján információt ábrázol továbbítás céljábó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 : hírek vagy adatok fizikai ábrázolá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paraméter : a jel azon jellemzője amelynek az értékváltozása a hírt vagy az adatokat ábrázol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 : tények és elképzelések nem értelmezett de értelmezhető formában való közzétét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roblémák műveletekke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lul - felöl csordulás, kerekí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utolsó tetrád az előj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100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101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löl  feltöltve ha kell : 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[Cserny pp78] ASCII táb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[Számítástechnika 2.6.2 pp47] EBCDIC táb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lyen típusú az ada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iztonság, védelem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w / sw kezelé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űvletek késöbb az ALU-ná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utasítás tárolási mód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 kézen meddig tudunk számolni ? (lebegőpontos, nem feltétlen bináris 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rendszer jelei sorrendben :  .  )  O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)  X  .  = ? =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örnyezet hatásai -&gt; döntés -&gt; reagál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öntés kiértékelésére : információ alapj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nformáció hordoz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özlemény = hasznos, új ism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nformáció : adott helyzetben bizonytalanságot csökk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nformáció = a közlemény tartalmi oldala (nem megjelenési for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nformáció : adatokon végrehajtott gondolati műveletek értelmezett eredménye, azaz értelmezett ism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információ továbbítás, feldolgozás csak az üzenet formai oldalával kapcsolatos (jelentéstől megfosztott jelsoroz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 : jelentéstől megfosztott informáci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 : hír feldolgozás céljábó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nformáció : jelsorozat tartal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 : jelsorozat formá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 megjelenési formája sokfé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ld. csöngetés...más-más reakci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sorozat szerkez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feldolgoz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-átalakítás hatékonyabb formá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feldolgoz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dat-átalakítás hatékonyabb formá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készlet : elemeiből épül fel a közlemé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abályrendszer : jelsorozat szerkez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ódrendszer = jelkészlet + szabályrends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ódolás = áttérés valamely kódrendszerből egy másik kódrendszer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0000" y="4416120"/>
            <a:ext cx="495936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nalóg jel : jelparamétere csak folytonos függvényből á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igitális jel : jelparamétere csak karakterekből á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arakter : információ ábrázolására szolgáló megállapodás szerinti véges halmaz (ABC) egy eleme. (A halmaz a karakterkészl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B76-082D-48A6-A139-FDD31376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908-B155-4DE0-BB82-B8A62398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AFE-F8D5-43CF-AC6D-C7F2BA54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C64-9B9F-4D5C-8A8A-005E44B2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5F9-7FB8-406A-9834-E79DB2C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ED5-2AD1-41F1-AEBD-9289FB35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0A1-CE42-4A73-BA2F-97FDA78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838-162A-4E92-AB5E-996C876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4B4-C2A0-4C8B-B9F8-60ECF4D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591-3FD8-4A72-A84D-5D6C240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614-83B5-4C5F-9604-B7686D8D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0FA-86F0-4D63-9C2E-4C5E48CD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52D0F5-359C-4D2A-AAEF-B850C91FBA64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k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ka 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„az a tudományág, amely az információk keletkezésével, továbbításával, feldolgozásával, hasznosításával foglalkozik a legszélesebb értelemben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nem szűken számítógépes feldolgozá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B73-1AA9-4291-AB0A-3797A1DCB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 - számrends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adix-weighted positional number system”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számrendszer alapján súlyozott helyiértékes számrendszer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jegy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pld. 0,1,2,3,4,5,6,7,8,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rendszer alapja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pld. 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zokványos 10-es számrendszer (0,1,2,3,4,5,6,7,8,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564,2 = 5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+ 6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+ 4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 + 2*10</a:t>
            </a:r>
            <a:r>
              <a:rPr b="0" lang="hu-HU" sz="4000" spc="-1" strike="noStrike" baseline="5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8F3-C309-442A-A8BA-87E7FC7A79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t-tárolási formá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treprezentác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FDA-A823-4458-9CDA-18019F4AE8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szokásos írásmódja fixpontos írásmó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6240" y="1965240"/>
            <a:ext cx="61804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írásmó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=(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...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...a 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m-1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2800" y="3276720"/>
            <a:ext cx="3954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hol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...,a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a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...,a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63160" y="3336840"/>
            <a:ext cx="4083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egyes helyiértéke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replő számjegy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laki érték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080" y="4875120"/>
            <a:ext cx="7216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elentése </a:t>
            </a: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radix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) alapú számrendszerbe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3800" y="5761080"/>
            <a:ext cx="132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s a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410080" y="5715000"/>
                <a:ext cx="2814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:</m:t>
                    </m:r>
                    <m:r>
                      <m:t xml:space="preserve">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85800" y="5334120"/>
                <a:ext cx="252720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±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F19-5F50-4273-8B12-7B2439E418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begőpontos írásmó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65760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mantissz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fixpontos szá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karakterisztik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 a hatványkitevő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fixpontos egész szá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hu-HU" sz="2800" spc="-1" strike="noStrike">
                <a:solidFill>
                  <a:srgbClr val="ff5050"/>
                </a:solidFill>
                <a:latin typeface="Times New Roman"/>
              </a:rPr>
              <a:t>radi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 a számrendszer alapszá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680" y="1951200"/>
            <a:ext cx="351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begőpontos szám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276720" y="5715000"/>
                <a:ext cx="20574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95280" y="2819520"/>
                <a:ext cx="1600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EDA-309C-475F-878E-DDC4480E7C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rmalizá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2760" y="2057400"/>
            <a:ext cx="350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izálás (nullára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657600" y="1752480"/>
                <a:ext cx="15382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503520" y="3352680"/>
            <a:ext cx="393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izálás (egyesekre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391520" y="3352680"/>
                <a:ext cx="14652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800600"/>
                <a:ext cx="579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4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4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819520" y="2666880"/>
            <a:ext cx="304560" cy="2133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0960" y="3886200"/>
            <a:ext cx="2286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19A-3F6C-4816-AC27-78FD9D61B0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tábrázolás kritérium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tékony táro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yértelműség (könnyen értelmezhető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yszerű, gyors műveletvég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047-9785-4FE2-9DC4-AFACA1165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náris adatfeldolgoz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ámítógép : információ feldolgozó eszkö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áció : numerikus / nem-numer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áris számábrázolá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d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k és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rozatával van ábrázol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5F3-F35D-4852-B87C-BB45E4DDB9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náris adat-táro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hu-H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CF5-3204-4054-BFB0-597AB73E11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ért binári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ért a kettes számrendszert használjuk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kai okok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jobban megkülönböztethető állapoto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vi, matematikai okok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tömörség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hány darab számjegy, hány féle számje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E0B-92D6-4BF0-9B2D-DB4D906996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t = (binary digit) az információ tárolás legkisebb egysé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bi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= 1 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by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024byte =  2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byte = 1Kilobyte = 1KB = 8K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024 KB = 1Megabyte = 1MB = 8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y adott gépen : „n” byte = 1 szó (wor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általában n = 2 vagy 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Bit, byte, Kb, Mb, sz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B1C-A1C1-4857-BA29-18906C8214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írközlési mode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" y="2642760"/>
            <a:ext cx="1224360" cy="579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r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89320" y="2684160"/>
            <a:ext cx="861840" cy="579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72800" y="2684160"/>
            <a:ext cx="1044720" cy="579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8560" y="2680920"/>
            <a:ext cx="1495800" cy="579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mz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97180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29718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54680" y="2332080"/>
            <a:ext cx="63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í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91680" y="3276720"/>
            <a:ext cx="111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ód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3640" y="3246480"/>
            <a:ext cx="150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kód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82840" y="2684160"/>
            <a:ext cx="2273400" cy="579960"/>
          </a:xfrm>
          <a:prstGeom prst="rect">
            <a:avLst/>
          </a:prstGeom>
          <a:solidFill>
            <a:srgbClr val="996633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ato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7760" y="4237200"/>
            <a:ext cx="2626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ódo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jos csato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bajav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861-A48D-4E35-94AA-48E5CD4272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számok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Fixpontos tárolá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4120" y="2103480"/>
            <a:ext cx="169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észek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1880" y="4313160"/>
            <a:ext cx="135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örtek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2625840"/>
          <a:ext cx="4581360" cy="10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25840"/>
                    <a:ext cx="4581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470200" y="272736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14400" y="4835520"/>
          <a:ext cx="4581360" cy="10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835520"/>
                    <a:ext cx="4581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72760" y="492120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07920" y="3581280"/>
            <a:ext cx="380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880" y="5837400"/>
            <a:ext cx="5785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11/16= 0.687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04480" y="3787920"/>
            <a:ext cx="224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ettedesp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8240" y="3592440"/>
            <a:ext cx="377640" cy="378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781680" y="3176640"/>
                <a:ext cx="2057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705720" y="4952880"/>
                <a:ext cx="1904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000480" y="1979640"/>
            <a:ext cx="2939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 a tárolócel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(bitek) szá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181-9DFE-4B18-9ED9-9DC14FF5AF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számok tárolása, példá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920" y="1798560"/>
            <a:ext cx="451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ész, 2-es számrendszer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7880" y="4282920"/>
            <a:ext cx="96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ört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2320920"/>
          <a:ext cx="4581360" cy="10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20920"/>
                    <a:ext cx="4581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69880" y="4759200"/>
          <a:ext cx="4581720" cy="10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880" y="4759200"/>
                    <a:ext cx="4581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28240" y="484488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2120" y="3352680"/>
            <a:ext cx="380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320" y="5837400"/>
            <a:ext cx="452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rolt számérték : 0.687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410080" y="1447920"/>
                <a:ext cx="3505320" cy="32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715000" y="5181480"/>
                <a:ext cx="1517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687560" y="2406600"/>
            <a:ext cx="418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410-E07C-4026-A48D-D092F7CDF2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Előjel és abszolút érték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ábrázolás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ő bit 0 : pozitív , első bit 1 : negatív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ána az abszolút értek (n-1 bit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11160" y="3932280"/>
            <a:ext cx="228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101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0320" y="5349960"/>
            <a:ext cx="151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őjel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288880" y="5261040"/>
            <a:ext cx="377640" cy="377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303280" y="5640120"/>
            <a:ext cx="361800" cy="453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200" y="4724280"/>
            <a:ext cx="902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66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560" y="6019920"/>
            <a:ext cx="794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66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9200" y="391644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51520" y="601992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 CE"/>
              </a:rPr>
              <a:t>| 1 |</a:t>
            </a:r>
            <a:r>
              <a:rPr b="1" lang="en-US" sz="3200" spc="-1" strike="noStrike">
                <a:solidFill>
                  <a:srgbClr val="ffffff"/>
                </a:solidFill>
                <a:latin typeface="Times New Roman CE"/>
              </a:rPr>
              <a:t> 0 | 1 | 0 | 1 | 1 | 0 | 0 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51520" y="472428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 CE"/>
              </a:rPr>
              <a:t>| 0 |</a:t>
            </a:r>
            <a:r>
              <a:rPr b="1" lang="en-US" sz="3200" spc="-1" strike="noStrike">
                <a:solidFill>
                  <a:srgbClr val="ffffff"/>
                </a:solidFill>
                <a:latin typeface="Times New Roman CE"/>
              </a:rPr>
              <a:t> 0 | 1 | 0 | 1 | 1 | 0 | 0 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1EF-2CBB-4B7E-B77A-03A864B709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1-es komplemen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11160" y="3780000"/>
            <a:ext cx="228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101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9200" y="376380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88760" y="522756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7600" y="5105520"/>
            <a:ext cx="12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ép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97200" y="2789280"/>
            <a:ext cx="170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ülön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63720" y="2057400"/>
            <a:ext cx="149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5160" y="4495680"/>
            <a:ext cx="4295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+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0101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0100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105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51120" y="267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4960" y="1916280"/>
            <a:ext cx="26542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-1-|A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1989000"/>
            <a:ext cx="358920" cy="1440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AFD-8562-4379-9CC3-75CD546CC3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2-es komplemen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7680" y="312408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4920" y="5562720"/>
            <a:ext cx="56689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épzé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17560" y="1981080"/>
            <a:ext cx="149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44920" y="2743200"/>
            <a:ext cx="170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ülön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2880" y="3657600"/>
            <a:ext cx="42955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+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0101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0100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010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23320" y="1844640"/>
            <a:ext cx="26542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k2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 CE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-1-|A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1917720"/>
            <a:ext cx="358920" cy="1440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5CC-E008-4227-88F0-72D54D4E58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többlete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: A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= A + t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hol „t” a több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39840" y="4343400"/>
            <a:ext cx="6586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„128+44”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7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101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4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„128 - 44”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8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1010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0720" y="3505320"/>
            <a:ext cx="388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128 többletesr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A10-CA86-4ECE-9F73-A43691BCAF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zitív és negatív egész számok tárolása, példá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60480" y="1981080"/>
          <a:ext cx="7218360" cy="41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981080"/>
                    <a:ext cx="721836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019-F412-4AFB-B1D0-00E64662CE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666880"/>
            <a:ext cx="800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mantissza előjele (0 ha pozití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mantissza törtrésze (egyesekre normalizál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karakterisztika érté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eltolás (többl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5920" y="4876920"/>
            <a:ext cx="6132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előjel karakteriszt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                mantiss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  </a:t>
            </a:r>
            <a:r>
              <a:rPr b="0" lang="en-US" sz="2800" spc="-1" strike="noStrike">
                <a:solidFill>
                  <a:srgbClr val="ccff99"/>
                </a:solidFill>
                <a:latin typeface="Times New Roman CE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Times New Roman CE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 |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 CE"/>
              </a:rPr>
              <a:t>(p+e)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|                       </a:t>
            </a:r>
            <a:r>
              <a:rPr b="0" lang="en-US" sz="3600" spc="-1" strike="noStrike">
                <a:solidFill>
                  <a:srgbClr val="ff5050"/>
                </a:solidFill>
                <a:latin typeface="Times New Roman CE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570960" y="5447880"/>
            <a:ext cx="457200" cy="381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1828800" y="4647960"/>
            <a:ext cx="457200" cy="1981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5638680" y="2895120"/>
            <a:ext cx="457200" cy="5486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57960" y="1752480"/>
            <a:ext cx="6396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CE"/>
              </a:rPr>
              <a:t>A =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ffffff"/>
                </a:solidFill>
                <a:latin typeface="Times New Roman CE"/>
              </a:rPr>
              <a:t>a*2</a:t>
            </a:r>
            <a:r>
              <a:rPr b="0" lang="en-US" sz="4400" spc="-1" strike="noStrike" baseline="50000">
                <a:solidFill>
                  <a:srgbClr val="ffffff"/>
                </a:solidFill>
                <a:latin typeface="Times New Roman CE"/>
              </a:rPr>
              <a:t>q </a:t>
            </a:r>
            <a:r>
              <a:rPr b="0" lang="en-US" sz="4400" spc="-1" strike="noStrike">
                <a:solidFill>
                  <a:srgbClr val="ffffff"/>
                </a:solidFill>
                <a:latin typeface="Times New Roman CE"/>
              </a:rPr>
              <a:t>= (-1)</a:t>
            </a:r>
            <a:r>
              <a:rPr b="0" lang="en-US" sz="4400" spc="-1" strike="noStrike" baseline="50000">
                <a:solidFill>
                  <a:srgbClr val="ccff99"/>
                </a:solidFill>
                <a:latin typeface="Times New Roman CE"/>
              </a:rPr>
              <a:t>s</a:t>
            </a:r>
            <a:r>
              <a:rPr b="0" lang="en-US" sz="4400" spc="-1" strike="noStrike" baseline="50000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 CE"/>
              </a:rPr>
              <a:t>* (1.</a:t>
            </a:r>
            <a:r>
              <a:rPr b="0" lang="en-US" sz="4400" spc="-1" strike="noStrike">
                <a:solidFill>
                  <a:srgbClr val="ff5050"/>
                </a:solidFill>
                <a:latin typeface="Times New Roman CE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Times New Roman CE"/>
              </a:rPr>
              <a:t>)*2</a:t>
            </a:r>
            <a:r>
              <a:rPr b="0" lang="en-US" sz="4400" spc="-1" strike="noStrike" baseline="50000">
                <a:solidFill>
                  <a:srgbClr val="ffff00"/>
                </a:solidFill>
                <a:latin typeface="Times New Roman CE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0E0-EFD5-40C4-83DA-F711E2E000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6320" y="1828800"/>
                <a:ext cx="9016920" cy="452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jellemz</m:t>
                          </m: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gyszere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ontossg</m:t>
                              </m:r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upl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ontossg</m:t>
                              </m:r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gyszere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ontossg</m:t>
                              </m:r>
                            </m:e>
                          </m:eqAr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hossz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8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jelbit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karakterisztika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ntissza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bit</m:t>
                          </m:r>
                          <m:r>
                            <m:t xml:space="preserve">]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2</m:t>
                          </m:r>
                        </m:e>
                      </m:mr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rakterisztik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bblet</m:t>
                              </m:r>
                            </m:e>
                          </m:eqAr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2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6383</m:t>
                          </m:r>
                        </m:e>
                      </m:mr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eciml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zmtartomny</m:t>
                              </m:r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±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</m:t>
                                  </m:r>
                                </m:sup>
                              </m:sSup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±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8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8</m:t>
                                  </m:r>
                                </m:sup>
                              </m:sSup>
                            </m:e>
                          </m:eqArr>
                        </m:e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±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3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32</m:t>
                                  </m:r>
                                </m:sup>
                              </m:sSup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945-7819-4B7F-AEF9-FFB6E73206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, pél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1752480"/>
            <a:ext cx="883944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-13,375  :  13 + 0,375 :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101,011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gatív szám = előjel : 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ccff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gyesre normalizálva: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101011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*2</a:t>
            </a:r>
            <a:r>
              <a:rPr b="0" lang="hu-H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ntissza (szignifikandus):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101011000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27 többletes karakterisztika = 130 :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10000010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8690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előjel karakterisztika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                mantiss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u-HU" sz="3600" spc="-1" strike="noStrike">
                <a:solidFill>
                  <a:srgbClr val="ccff99"/>
                </a:solidFill>
                <a:latin typeface="Times New Roman CE"/>
              </a:rPr>
              <a:t>1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u-HU" sz="3600" spc="-1" strike="noStrike">
                <a:solidFill>
                  <a:srgbClr val="ffff00"/>
                </a:solidFill>
                <a:latin typeface="Times New Roman CE"/>
              </a:rPr>
              <a:t>1000001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|</a:t>
            </a:r>
            <a:r>
              <a:rPr b="0" lang="hu-HU" sz="3600" spc="-1" strike="noStrike">
                <a:solidFill>
                  <a:srgbClr val="ffff00"/>
                </a:solidFill>
                <a:latin typeface="Times New Roman CE"/>
              </a:rPr>
              <a:t>0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 </a:t>
            </a:r>
            <a:r>
              <a:rPr b="0" lang="hu-HU" sz="3600" spc="-1" strike="noStrike">
                <a:solidFill>
                  <a:srgbClr val="ff5050"/>
                </a:solidFill>
                <a:latin typeface="Times New Roman CE"/>
              </a:rPr>
              <a:t>1010110</a:t>
            </a:r>
            <a:r>
              <a:rPr b="0" lang="hu-HU" sz="3600" spc="-1" strike="noStrike">
                <a:solidFill>
                  <a:srgbClr val="ffffff"/>
                </a:solidFill>
                <a:latin typeface="Times New Roman CE"/>
              </a:rPr>
              <a:t>|</a:t>
            </a:r>
            <a:r>
              <a:rPr b="0" lang="hu-HU" sz="3600" spc="-1" strike="noStrike">
                <a:solidFill>
                  <a:srgbClr val="ff5050"/>
                </a:solidFill>
                <a:latin typeface="Times New Roman CE"/>
              </a:rPr>
              <a:t>00000000</a:t>
            </a: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|</a:t>
            </a:r>
            <a:r>
              <a:rPr b="0" lang="hu-HU" sz="3600" spc="-1" strike="noStrike">
                <a:solidFill>
                  <a:srgbClr val="ff5050"/>
                </a:solidFill>
                <a:latin typeface="Times New Roman CE"/>
              </a:rPr>
              <a:t>00000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176400" y="5447160"/>
            <a:ext cx="385920" cy="381240"/>
          </a:xfrm>
          <a:custGeom>
            <a:avLst/>
            <a:gdLst>
              <a:gd name="textAreaLeft" fmla="*/ 246600 w 385920"/>
              <a:gd name="textAreaRight" fmla="*/ 386280 w 3859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1422360" y="4633920"/>
            <a:ext cx="432000" cy="2054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53280 h 2054160"/>
              <a:gd name="textAreaBottom" fmla="*/ 2000880 h 20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639040" y="2648520"/>
            <a:ext cx="457200" cy="6049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7680 h 6049800"/>
              <a:gd name="textAreaBottom" fmla="*/ 5892120 h 60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872-F919-4C46-A08D-419E2F4D3B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ír, adat, j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2286000"/>
            <a:ext cx="65916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í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97452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5334120"/>
            <a:ext cx="59040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36360" y="1981080"/>
            <a:ext cx="345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dolgozás céljábó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200" y="3276720"/>
            <a:ext cx="1861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vább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éljábó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5160" y="2590920"/>
            <a:ext cx="4417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0240" y="2820960"/>
            <a:ext cx="2208240" cy="2741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649400" y="2820960"/>
            <a:ext cx="2360520" cy="2817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8720" y="4419720"/>
            <a:ext cx="190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zik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ábrázol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8480" y="4419720"/>
            <a:ext cx="190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zik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ábrázol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85A-60C8-4297-BD1C-8BC3E2E94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zámok lebegőpontos tárolás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I/IEEE 754, jellemző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" y="1920960"/>
          <a:ext cx="893916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20960"/>
                    <a:ext cx="89391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39A-1D09-4B6F-B60A-019D61ACC2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BCD</a:t>
            </a:r>
            <a:br>
              <a:rPr sz="4400"/>
            </a:b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(Binary Coded Decima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240" y="210348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7680" y="1752480"/>
            <a:ext cx="118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6000" y="2666880"/>
            <a:ext cx="577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9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7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0001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1001 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0111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 CE"/>
              </a:rPr>
              <a:t>00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1.byte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 CE"/>
              </a:rPr>
              <a:t>2.by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163764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620964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316188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685760" y="308592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200000">
            <a:off x="2399760" y="3543120"/>
            <a:ext cx="457200" cy="2667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 rot="16200000">
            <a:off x="5448240" y="354348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E50-F3BA-4DEF-9C2F-948CA4071D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Gray kó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89400" y="5943600"/>
            <a:ext cx="669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lajdonsága: mindig csak 1 bit változ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1773360"/>
            <a:ext cx="291960" cy="3797280"/>
          </a:xfrm>
          <a:prstGeom prst="downArrow">
            <a:avLst>
              <a:gd name="adj1" fmla="val 50000"/>
              <a:gd name="adj2" fmla="val 82011"/>
            </a:avLst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47000" y="1341360"/>
            <a:ext cx="394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 CE"/>
              </a:rPr>
              <a:t>Decimális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Bináris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G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2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3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4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5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6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0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7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11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0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… 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…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7F7-C0BE-40B4-8717-1DAC3BEE7C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xadecimális számábrázo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2800" y="1523880"/>
            <a:ext cx="2009520" cy="49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..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30360"/>
                <a:tab algn="l" pos="3060720"/>
                <a:tab algn="l" pos="4591080"/>
                <a:tab algn="l" pos="6121440"/>
                <a:tab algn="l" pos="7651800"/>
                <a:tab algn="l" pos="9182160"/>
                <a:tab algn="l" pos="10712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29280" y="2712960"/>
            <a:ext cx="3641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xadecimális kód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820960" y="3125880"/>
            <a:ext cx="530280" cy="301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69640" y="3733920"/>
            <a:ext cx="128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9960" y="4267080"/>
            <a:ext cx="47131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107 = 0110 101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 = 6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 CE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 CE"/>
              </a:rPr>
              <a:t>6       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 rot="16200000">
            <a:off x="4952880" y="472428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 rot="16200000">
            <a:off x="6019920" y="472428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EEE-EC3C-4AB3-8A6E-9213C64C86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fanumerikus karakterábrázo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BCDIC (Extended Binary Coded Decimal code for Informations Change) zónarész + számjegyré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5050"/>
                </a:solidFill>
                <a:latin typeface="Times New Roman"/>
              </a:rPr>
              <a:t>ASCII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(American Standard Code for Information Interchange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ISO 7 bites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etűk, számok, írásjelek, vezérlő karakterek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éldául : 32=„ ” (szóköz),  48=„0”, 65=„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9DF-248D-43A2-BF46-CD0651A716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gyéb (öndefiniáló) adattárolási mód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elölt adatábrázolás (tagged storage) : + adat típus, felhasználás mód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eszkriptoros tárolási forma (data descriptor) : + hozzáférési jogok, cé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összetett strukturális form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6E0-6215-47B5-A9B1-53E3BA2625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ttárolási módok összefogla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11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kféle” kódo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den” a kódolástól függ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ábrázolható tartomány, műveletek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152360" y="3933720"/>
            <a:ext cx="197028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F87-E938-4AE0-B3CC-237CACAAEA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/16 és 1/10 a kettes számrendszerb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3440" y="1828800"/>
            <a:ext cx="2451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0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000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0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00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0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0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1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0,10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,00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905120"/>
            <a:ext cx="2590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1/16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?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2514600"/>
            <a:ext cx="2590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0,000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5129280"/>
            <a:ext cx="2590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1/1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?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73876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</a:rPr>
              <a:t>= 0,000110011001100110...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 C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5815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080" y="617220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végtelen szakaszos kettedes tört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4C9-6805-4696-9A51-C0513FDE180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0,1+0,1+0,1+ 0,1+0,1+0,1+ 0,1+0,1+0,1+0,1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14600" y="144756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001100110011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001100110011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011001100110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011001100110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110011001100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110011001100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1100110011000..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8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0,001100110011..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,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0,111111111111...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(1</a:t>
            </a:r>
            <a:r>
              <a:rPr b="0" lang="en-US" sz="3200" spc="-1" strike="noStrike" baseline="-25000">
                <a:solidFill>
                  <a:srgbClr val="ff505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552-5686-4B6F-91F2-E86933350159}" type="slidenum">
              <a:t>3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699-3CF8-42D0-8B87-1B99BEBF0D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at, információ, je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at (data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form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ció ami olyan formában van átalakítva hogy könnyebb legyen mozgatni vagy feldolgozni.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mai számítógépekb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ada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for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áci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ó bitek formájáb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nformáció (information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ger, ami a befogad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ójának értelemmel bír egy kontextusban.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nformációt át lehet alakítani adattá és átadni egy másik befogadónak.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mai számítógépekben: az információt adattá alakítják, az bekerül a számítógépbe, ahol tárolják és feldolgozzák, majd adatként kikerül és információként értelmezi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Jel (signal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amit küldünk vagy fogadunk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510-4E43-49DA-B95C-B3246E87D7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013120" y="0"/>
            <a:ext cx="5200560" cy="68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6E5-078D-4708-9E48-131723CB27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özlemény, adat, informá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50680" y="2610000"/>
            <a:ext cx="212832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zlemé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678200"/>
            <a:ext cx="97452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4600" y="4667400"/>
            <a:ext cx="205812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ác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62120" y="3201840"/>
            <a:ext cx="2133360" cy="1446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8880" y="3201840"/>
            <a:ext cx="2131920" cy="1446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295280" y="4952880"/>
            <a:ext cx="4114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4840" y="2819520"/>
            <a:ext cx="3197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znos új ismer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5920" y="3429000"/>
            <a:ext cx="115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6520" y="3657600"/>
            <a:ext cx="154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tal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7400" y="4343400"/>
            <a:ext cx="384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lentéstől megfoszt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77160" y="5257800"/>
            <a:ext cx="3296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rtelmezett ismer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905120"/>
            <a:ext cx="192384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soroz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6240" y="2135160"/>
            <a:ext cx="2589480" cy="455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3E4-3F6D-4CAE-9130-1964B7E483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elkészlet, kódrendszer, kódol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2120" y="2362320"/>
            <a:ext cx="5251680" cy="3359160"/>
          </a:xfrm>
          <a:prstGeom prst="ellipse">
            <a:avLst/>
          </a:prstGeom>
          <a:solidFill>
            <a:srgbClr val="99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ódrends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4760" y="3060720"/>
            <a:ext cx="2660400" cy="226044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kész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7960" y="3422520"/>
            <a:ext cx="2146320" cy="161316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bály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ds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971800"/>
            <a:ext cx="3137040" cy="2222640"/>
          </a:xfrm>
          <a:prstGeom prst="ellipse">
            <a:avLst/>
          </a:prstGeom>
          <a:solidFill>
            <a:srgbClr val="99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ódrends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209680"/>
            <a:ext cx="3200040" cy="165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9"/>
                </a:moveTo>
                <a:arcTo wR="10800" hR="10800" stAng="-10793402" swAng="10839633"/>
                <a:lnTo>
                  <a:pt x="10800" y="10800"/>
                </a:lnTo>
                <a:close/>
              </a:path>
              <a:path fill="none" w="21600" h="21600">
                <a:moveTo>
                  <a:pt x="0" y="10779"/>
                </a:moveTo>
                <a:arcTo wR="10800" hR="10800" stAng="-10793402" swAng="10839633"/>
              </a:path>
            </a:pathLst>
          </a:custGeom>
          <a:noFill/>
          <a:ln cap="rnd" w="7632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3879720"/>
            <a:ext cx="927000" cy="62244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7920" y="4032360"/>
            <a:ext cx="927360" cy="62208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0560" y="4184640"/>
            <a:ext cx="927000" cy="62244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6160" y="2362320"/>
            <a:ext cx="145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ódo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2640" y="6248520"/>
            <a:ext cx="212832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zlemé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2840" y="4336920"/>
            <a:ext cx="927000" cy="62244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4280" y="4954680"/>
            <a:ext cx="455400" cy="1369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0760" y="4802040"/>
            <a:ext cx="608040" cy="1522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5840" y="4497480"/>
            <a:ext cx="684360" cy="1827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00400" y="5943600"/>
            <a:ext cx="2286000" cy="76320"/>
            <a:chOff x="3200400" y="5943600"/>
            <a:chExt cx="2286000" cy="76320"/>
          </a:xfrm>
        </p:grpSpPr>
        <p:sp>
          <p:nvSpPr>
            <p:cNvPr id="105" name=""/>
            <p:cNvSpPr/>
            <p:nvPr/>
          </p:nvSpPr>
          <p:spPr>
            <a:xfrm>
              <a:off x="3200400" y="5943600"/>
              <a:ext cx="7632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3040" y="594360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5943600"/>
              <a:ext cx="7632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10240" y="5981760"/>
              <a:ext cx="304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5981760"/>
              <a:ext cx="304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5981760"/>
              <a:ext cx="304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520" y="5943600"/>
              <a:ext cx="7632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5943600"/>
              <a:ext cx="7632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440" y="594360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012440" y="57150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6A9-8372-45F0-A867-D8A887507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el, karak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9040" y="1417320"/>
            <a:ext cx="59040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52600" y="5366160"/>
            <a:ext cx="47905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jel azon jellemző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lyeknek az értékváltozás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írt vagy az adatokat ábrázo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3360" y="2697120"/>
            <a:ext cx="140256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ó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1280" y="2697120"/>
            <a:ext cx="153828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á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60" y="3535200"/>
            <a:ext cx="17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yto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üggvé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11840" y="3565440"/>
            <a:ext cx="1521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2200" y="2286000"/>
            <a:ext cx="222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D átalakí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8160" y="3276720"/>
            <a:ext cx="222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/A átalakít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3120" y="4022640"/>
            <a:ext cx="3274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gállapodás szeri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éges halmaz (AB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640" y="2895480"/>
            <a:ext cx="2436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01280" y="3124080"/>
            <a:ext cx="2436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991800" y="1676520"/>
            <a:ext cx="144612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560" y="1677960"/>
            <a:ext cx="1598760" cy="1065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6480" y="4770360"/>
            <a:ext cx="244044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lparamé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743200" y="4040280"/>
            <a:ext cx="1905120" cy="760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3292560"/>
            <a:ext cx="0" cy="365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92560"/>
            <a:ext cx="0" cy="365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86400" y="3583080"/>
            <a:ext cx="914400" cy="303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068120" y="4497480"/>
            <a:ext cx="1522440" cy="303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51680" y="3322440"/>
            <a:ext cx="2920680" cy="579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akterkész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2C0-D0A2-42CE-AED6-8DDA85AAF4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oritmus, program, utasít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ladat megoldása = műveletek, átalakítások soroz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mus = egy feladatnak a megoldáshoz vezető lépéssoroz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mus elemi lépései = utasítások a feladatot megoldó szám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= utasítások soroz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határozott (megengedett) utasítás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F78-0688-46FD-8EBF-1EF4FE2BF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rdver - Szoft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rdver (hardware) : számítógép elektronikus áramkörei, mechanikus berendezései, kábelek, csatlakozók, perifériák (önmagában nem működőkép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oftver (software) : számítógépet működőképessé tevő programok és dokumentáció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irmware : számítógép általános vezérlése (csak olvasható programok : RO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323-708E-4B73-92BA-683554C52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06:12:32Z</dcterms:created>
  <dc:creator/>
  <dc:description/>
  <dc:language>en-US</dc:language>
  <cp:lastModifiedBy>Nagymáté Péter</cp:lastModifiedBy>
  <cp:lastPrinted>1999-02-02T12:06:11Z</cp:lastPrinted>
  <dcterms:modified xsi:type="dcterms:W3CDTF">2003-09-25T06:57:29Z</dcterms:modified>
  <cp:revision>85</cp:revision>
  <dc:subject/>
  <dc:title>Informati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9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people.inf.elte.hu/istenes</vt:lpwstr>
  </property>
  <property fmtid="{D5CDD505-2E9C-101B-9397-08002B2CF9AE}" pid="9" name="LinkColor">
    <vt:r8>16711782</vt:r8>
  </property>
  <property fmtid="{D5CDD505-2E9C-101B-9397-08002B2CF9AE}" pid="10" name="MailAddress">
    <vt:lpwstr>istenes@inf.elt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kumentumok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